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827-DDDE-416B-9615-73C57479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896-2357-402F-AD61-778D42C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3A22F-D708-4944-A282-6A5FE03E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653A2-C38F-425E-982F-CDE7A213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A7271-707F-40F2-B936-417BCA8E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39D44-152B-4E4D-AFF8-3E7ECFD1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F060F-D9B3-4043-9E12-C52AFC33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5685D-D47A-4512-B888-C6A3377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D1A0F-7866-43D2-A0D4-58CF4E01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203D2-C8CB-4253-80AE-D9C991FF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6E936-C6A7-4276-BFD0-8563CCBE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90F07-0C20-4EF1-8A7A-4A004D41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7CC-C278-4C92-819D-D8222789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DE63B-3B6D-4B07-BF47-3DFA5C8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9AA03-131B-4C55-94A7-5FC0FFFA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A8F3D-2AC4-42B2-8EFA-BBC41765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DFE4B-B0B5-4C4A-8FC5-2260D9B2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B3E64-7300-4A85-9D81-421228D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A6905-4FAF-4EA9-8373-C3790F4D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B2B4B-BD1A-409B-AEF7-6DBBAF3C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76D83-EC2A-4A11-BC63-61A3A13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B06DF-8E29-40D2-BA43-D7C31C7E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C4DE8-13E4-4FE7-9090-57C3853B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0E8-2469-4329-AD50-DBF52D3B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EE644-89C7-4975-9744-DF211FE0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1278F-BFC6-4380-8E61-9A303396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96529-A6DB-4C40-871D-F047138D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DB1C5-F0D3-42EC-A5BE-6B6C59C6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64106-A178-4F0F-8AC5-C835134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705A5-7DFE-4F6A-AF10-2C9947A2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43304-AE8A-4810-918B-8EFB96A1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B9CCE-6618-4888-9DB3-0025EE8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880CC-444E-45E2-95A4-23B2E27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AF4E0-2B7F-434E-B594-8CDA697D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1A6D-81F0-4F39-9C41-ED2FAD47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A74C3-8C92-4821-9D64-EF64B807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19B78-0817-44ED-90C1-6927B35D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FFDD0-C9B0-4C9C-9BCA-99BCF4BC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B4BA-983E-4D38-B2DA-95D59687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6E34-49ED-419C-AC82-936307C1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BA22-848A-44CF-B16B-1D37DA77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4569-A107-499F-9C8F-1F4F60A9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DF4D-0ED7-4603-B1CF-8750F36B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9CCA-C74E-47CC-93D3-4CC9AE56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5A3-CAF4-4000-9DCC-F1278E29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0913-2880-426D-AEDF-822D6E6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0ABE-3C9F-4082-885E-91830FA2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8800-B1AB-454D-8C78-2108F1D5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F37C-CC96-4125-94B9-7E5CF76E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840-1B37-4B16-A11C-69B22B54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EA15-7C16-4132-8BCB-806C4C1A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4243-0703-4299-9B4B-51B0B65F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AEFA-8FC5-4564-BF48-25DD2D43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4098-5431-4914-B058-D890400C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AE144-DD96-4633-8CF2-A639BF60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30A-2CCE-4790-9FB7-26FB7285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E32B-5D13-4F43-A431-7F624F37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D791-F7F8-41FF-9E51-B20B8DE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5C13-4CBB-4672-8E83-DA8BE0E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37DF-EFE6-4890-8EA0-60E68C62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5956-0040-4A0A-AF04-154A5B29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DF02-7439-47BF-9873-4054AE39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45C6-2556-4242-ADC7-BB693E2A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687F-C3A0-4812-B5C8-283CF7F8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B562-F896-4C18-BB29-2D824F74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FC359-3658-4BF5-92D8-90A5FBF7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0C9-1433-4B4E-84C8-BA5B3D64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474E-2541-4663-BE89-16737116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FF7C-3A4E-4D59-A304-AFC45019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51EA-2CD2-4F99-9C49-4F9F8655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616E-3632-4F04-97C2-D8058FE5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A6A3-91FF-4841-9C28-2378F64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3B4C0-D5BD-47F2-B23E-F0767DF3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E617-81B7-4EC7-88B2-D9FE3BBE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DC2C-3EE3-4A58-AA9D-85B7E7D9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D2AB-5500-4C1C-9C0B-3B7C8F19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89249-7D00-4443-991D-98FB5E19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BF8-20EB-4C17-95CF-8DBE583D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3803-B6B5-4866-9111-C5578273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417AE-2DAE-460B-80A5-23518C7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BF5EF-4309-4935-887C-0A7ABB7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CFEDA-135F-483B-B913-138DC47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93585-8FAE-442D-85EF-40B28A2D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1FEB3-9414-4159-8EA4-09321ABD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6057-FBD3-49B0-BB12-AE4E3C1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C47B2-31B9-4528-9735-D98E1CFC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0EB0-1449-450E-8CE2-77587811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99541-EF60-41D0-A467-DDE9B2D5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A0C-4B55-43AC-A14C-546A4666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93482-A4FF-481C-AE86-47297C50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DD87-A51E-4F4A-823F-8C494E11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75F1-98F7-4CCB-9561-17F9B886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8385-F9B9-44B4-914A-60AE1EF7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189F0-BCD4-430F-9CDF-738112A8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D41E3-FF06-47A3-BD6D-40407431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81DE9-25FB-4D91-894A-0713759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A3FDC-EADE-4585-B5F2-D83B0126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07A9-47EC-4E8C-8DB9-0C15BCC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CC18-A442-4EE0-A7B2-18CFD1F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DB2-FE82-46E4-8531-94B7EECC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3AA2-FF71-4439-A565-4A66242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B37C8-6178-4D7B-9C2F-5F3FA613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4AB61-65F0-49B0-8AE9-6E266614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A8EA-B500-4031-9D6A-C6678182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5B132-865C-4B75-AE48-7B8BBAE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E6269-473A-4D4E-B97D-6F79C59F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A0E8F-246B-49B9-BC29-790CD56F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561A9-FB6C-429E-995E-67E0D895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36FB3-9AFE-4A41-A3E2-BF7AC13D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51082-0A77-4AE3-A92E-7B8782B4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997-42A7-4E97-9B7C-3BCE82AF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B8DB-1C91-4BAC-8A6F-0E6DFA8A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BD8F4-3D1C-4DB5-A33A-6CCF6FD1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80753-4A8B-4081-8C3B-B38291C9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E6750-EFD2-45FD-BCD1-2C2EB6BD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6FBC8-026E-4FB3-BE75-8ACD759E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1EA24-88F9-4246-9C73-CD792A3B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3E3DC-4D67-4090-84B2-E590D826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11C2D-17A7-4D55-80DA-7B1F1DDF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0D7E-E043-4F18-983B-47195EE7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4DDE5-533D-4631-9E7C-F002ADB0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1FB-B42F-455B-B2A2-6841490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755BE-861C-48DC-93C4-11795B05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A58E0-1AF5-434D-AD5D-072FAF4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91B2A-919A-4DDF-8D68-93AAB09C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9E945-9462-481D-AF7C-5889C320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B3ECF-8A24-44A8-8F61-314CD856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12C83-94A9-4C8A-9AF8-063C44F2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B39C5-22B7-4DE1-A145-34237DBC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61763-5BA7-4A28-85DE-C6E2B7E1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0A4BA-1407-480E-89D1-E376B4A8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EC0C5-AC8C-4B1F-BC1A-8BE335BD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C4EE-0C18-420B-921B-3C46AC3067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4F70-8E45-410C-8448-6AAF933B5A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A469-ED81-49A8-B912-3A11CC4F945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7CA7-1419-4D93-A4DE-7FEB49781C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6A2-F723-4789-8F1B-EBE5DDBF27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4542-625B-4E67-ACE8-0C031C2D48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2D86-9219-4457-915A-5E8BCABC7F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747B-033F-4433-AA0F-9581A9F150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D43-CD3E-4ABB-8C56-1FF6D27508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6301-443E-4312-938A-AAA050A3C6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5A8D-0653-4EC4-9260-D817E91CA7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d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n.wav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l.wav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d.exe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.exe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n.exe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l.exe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E:\教学资料\杨黎黎教后记\dtn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5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0E83-BC4A-4B6D-B95D-5BE978F3A9F7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4" name="矩形 12293"/>
          <p:cNvSpPr/>
          <p:nvPr/>
        </p:nvSpPr>
        <p:spPr>
          <a:xfrm>
            <a:off x="0" y="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5" name="矩形 1229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E:\work\新课标配套课件全集\小学全集\mxy\小学语文\图片\0dyd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3747960" y="168768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4475160" y="1676520"/>
            <a:ext cx="6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e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3016440" y="2971800"/>
            <a:ext cx="34063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   dē   dé   d</a:t>
            </a:r>
            <a:r>
              <a:rPr b="1" lang="en-US" sz="2800" spc="-1" strike="noStrike">
                <a:solidFill>
                  <a:srgbClr val="800080"/>
                </a:solidFill>
                <a:latin typeface="Century Gothic"/>
              </a:rPr>
              <a:t>ě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è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a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í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ì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u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ú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ù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12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1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6F8E-DE39-4577-A7CE-7ACDB8FDE99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E:\work\新课标配套课件全集\小学全集\mxy\小学语文\图片\yw1p13_top.png"/>
          <p:cNvPicPr/>
          <p:nvPr/>
        </p:nvPicPr>
        <p:blipFill>
          <a:blip r:embed="rId3"/>
          <a:stretch/>
        </p:blipFill>
        <p:spPr>
          <a:xfrm>
            <a:off x="1714680" y="1600200"/>
            <a:ext cx="5715000" cy="34862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"/>
          <p:cNvGrpSpPr/>
          <p:nvPr/>
        </p:nvGrpSpPr>
        <p:grpSpPr>
          <a:xfrm>
            <a:off x="3886200" y="5257800"/>
            <a:ext cx="3657600" cy="1143000"/>
            <a:chOff x="3886200" y="5257800"/>
            <a:chExt cx="3657600" cy="1143000"/>
          </a:xfrm>
        </p:grpSpPr>
        <p:sp>
          <p:nvSpPr>
            <p:cNvPr id="518" name="AutoShape 5"/>
            <p:cNvSpPr/>
            <p:nvPr/>
          </p:nvSpPr>
          <p:spPr>
            <a:xfrm>
              <a:off x="3886200" y="5257800"/>
              <a:ext cx="3657600" cy="1143000"/>
            </a:xfrm>
            <a:prstGeom prst="cloudCallout">
              <a:avLst>
                <a:gd name="adj1" fmla="val -16708"/>
                <a:gd name="adj2" fmla="val -114722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5244840" y="548640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读一读，编一编。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520" name="Picture 7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1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E3D2-5EDD-4085-868B-ED91FD839F4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2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4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9" descr="E:\work\新课标配套课件全集\小学全集\mxy\小学语文\图片\yw1p13_top00.png"/>
          <p:cNvPicPr/>
          <p:nvPr/>
        </p:nvPicPr>
        <p:blipFill>
          <a:blip r:embed="rId3"/>
          <a:stretch/>
        </p:blipFill>
        <p:spPr>
          <a:xfrm>
            <a:off x="1143000" y="1684440"/>
            <a:ext cx="4610160" cy="2811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1" descr="E:\work\新课标配套课件全集\小学全集\mxy\小学语文\图片\yw1p13_txt.png"/>
          <p:cNvPicPr/>
          <p:nvPr/>
        </p:nvPicPr>
        <p:blipFill>
          <a:blip r:embed="rId4"/>
          <a:stretch/>
        </p:blipFill>
        <p:spPr>
          <a:xfrm>
            <a:off x="5105520" y="2792520"/>
            <a:ext cx="3268440" cy="3303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2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54BA-B182-4988-9C63-6C90B349A7CC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9" name="矩形 2356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2B44-4C59-4FCA-90CC-25339FED70DD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3200400" y="2438280"/>
            <a:ext cx="38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悟空本领特别大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天兵天将全不怕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打败哪吒三太子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乐得悟空笑哈哈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079880" y="178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读儿歌：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59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BC84-5796-450A-AC34-67CF69E01A30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654200" y="1752480"/>
            <a:ext cx="5834160" cy="442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F9CE-3F98-4929-B1CA-989F3AF700D8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>
            <a:hlinkClick r:id="rId3"/>
          </p:cNvPr>
          <p:cNvSpPr/>
          <p:nvPr/>
        </p:nvSpPr>
        <p:spPr>
          <a:xfrm>
            <a:off x="1905120" y="1752480"/>
            <a:ext cx="9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69" name="Picture 9" descr="E:\work\新课标配套课件全集\小学全集\mxy\小学语文\图片\yw1p12_d.png"/>
          <p:cNvPicPr/>
          <p:nvPr/>
        </p:nvPicPr>
        <p:blipFill>
          <a:blip r:embed="rId4"/>
          <a:stretch/>
        </p:blipFill>
        <p:spPr>
          <a:xfrm>
            <a:off x="2743200" y="1676520"/>
            <a:ext cx="4572000" cy="4628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25AD-4C0D-4FF0-8351-2B2E352F28F2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4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t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75" name="Picture 6" descr="E:\work\新课标配套课件全集\小学全集\mxy\小学语文\图片\yw1p12_t.png"/>
          <p:cNvPicPr/>
          <p:nvPr/>
        </p:nvPicPr>
        <p:blipFill>
          <a:blip r:embed="rId4"/>
          <a:stretch/>
        </p:blipFill>
        <p:spPr>
          <a:xfrm>
            <a:off x="2705040" y="1535040"/>
            <a:ext cx="4000680" cy="45608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D0C7-6156-49AF-A82D-FC67703B3F2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26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027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n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1" name="Picture 1028" descr="E:\work\新课标配套课件全集\小学全集\mxy\小学语文\图片\yw1p12_n.png"/>
          <p:cNvPicPr/>
          <p:nvPr/>
        </p:nvPicPr>
        <p:blipFill>
          <a:blip r:embed="rId4"/>
          <a:stretch/>
        </p:blipFill>
        <p:spPr>
          <a:xfrm>
            <a:off x="2438280" y="1646280"/>
            <a:ext cx="4572000" cy="3840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29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39DF-DF1E-4FA5-977A-30C2B595D9F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84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l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7" name="Picture 7" descr="E:\work\新课标配套课件全集\小学全集\mxy\小学语文\图片\yw1p12_l.png"/>
          <p:cNvPicPr/>
          <p:nvPr/>
        </p:nvPicPr>
        <p:blipFill>
          <a:blip r:embed="rId4"/>
          <a:stretch/>
        </p:blipFill>
        <p:spPr>
          <a:xfrm>
            <a:off x="2362320" y="1635120"/>
            <a:ext cx="4572000" cy="385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CB64-6A6D-4688-A657-22A910EDD5B7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1" name="矩形 1844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441440" y="1752480"/>
            <a:ext cx="4121280" cy="31258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9"/>
          <p:cNvGrpSpPr/>
          <p:nvPr/>
        </p:nvGrpSpPr>
        <p:grpSpPr>
          <a:xfrm>
            <a:off x="4114800" y="1447920"/>
            <a:ext cx="4724280" cy="1981080"/>
            <a:chOff x="4114800" y="1447920"/>
            <a:chExt cx="4724280" cy="1981080"/>
          </a:xfrm>
        </p:grpSpPr>
        <p:sp>
          <p:nvSpPr>
            <p:cNvPr id="495" name="AutoShape 10"/>
            <p:cNvSpPr/>
            <p:nvPr/>
          </p:nvSpPr>
          <p:spPr>
            <a:xfrm>
              <a:off x="4114800" y="1447920"/>
              <a:ext cx="4724280" cy="1981080"/>
            </a:xfrm>
            <a:prstGeom prst="cloudCallout">
              <a:avLst>
                <a:gd name="adj1" fmla="val -31953"/>
                <a:gd name="adj2" fmla="val 78365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4647960" y="167652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再看看图片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你发现了什么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能想个办法记住字母吗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497" name="Picture 12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98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0F4D-227A-4EE6-9562-AE670E4F230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E:\work\新课标配套课件全集\小学全集\mxy\小学语文\图片\0xyx.gif"/>
          <p:cNvPicPr/>
          <p:nvPr/>
        </p:nvPicPr>
        <p:blipFill>
          <a:blip r:embed="rId2"/>
          <a:stretch/>
        </p:blipFill>
        <p:spPr>
          <a:xfrm>
            <a:off x="1065240" y="1065240"/>
            <a:ext cx="1977840" cy="549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E:\work\新课标配套课件全集\小学全集\mxy\小学语文\图片\xie_d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176560"/>
            <a:ext cx="1486080" cy="250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E:\work\新课标配套课件全集\小学全集\mxy\小学语文\图片\xie_t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27280" y="2225520"/>
            <a:ext cx="1121040" cy="242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E:\work\新课标配套课件全集\小学全集\mxy\小学语文\图片\xie_n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03920" y="2168640"/>
            <a:ext cx="1268280" cy="2479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E:\work\新课标配套课件全集\小学全集\mxy\小学语文\图片\xie_l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46800" y="2133720"/>
            <a:ext cx="1349280" cy="2297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D:\logo.gif"/>
          <p:cNvPicPr/>
          <p:nvPr/>
        </p:nvPicPr>
        <p:blipFill>
          <a:blip r:embed="rId11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06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0680-B87A-4DE3-AA16-87AD58C15CD4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0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10:39:03Z</dcterms:created>
  <dc:creator/>
  <dc:description/>
  <cp:keywords/>
  <dc:language>en-US</dc:language>
  <cp:lastModifiedBy>User</cp:lastModifiedBy>
  <dcterms:modified xsi:type="dcterms:W3CDTF">2016-10-05T12:11:4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